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A18B-58DB-4481-B632-AEBC16CC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20F4-FC3B-484B-9734-A0A1CEAD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1F16-6A23-45CA-BDBF-9FA28D30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F2B4-A9AC-425B-AA1B-D8BC0771F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9C15-A26E-4C16-B33A-89678E18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A605-BD36-4BC0-9CDD-6147C511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3DAC-B0F2-4BDD-A4C5-EB86A0B3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76BF-D2F5-4085-AB03-B6F8A544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5D5C-AD01-4C6E-9FA4-035DE445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E00F-D566-4185-8D44-7423AE79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50B1-7263-44BD-A279-5AC1CD54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7ED7-C4A9-4C75-8496-C74D5E29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FEFD-6AB6-4625-95A8-9EC33758A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0"/>
            <a:ext cx="9144000" cy="1620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 4-12 &amp; 13-12   *Europe Map Test &amp; Focus Test  --  NEXT Friday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71000" cy="5486400"/>
          </a:xfrm>
          <a:prstGeom prst="rect">
            <a:avLst/>
          </a:prstGeom>
          <a:ln w="0">
            <a:noFill/>
          </a:ln>
        </p:spPr>
      </p:pic>
      <p:sp>
        <p:nvSpPr>
          <p:cNvPr id="43" name="Freeform 2"/>
          <p:cNvSpPr/>
          <p:nvPr/>
        </p:nvSpPr>
        <p:spPr>
          <a:xfrm flipH="1" rot="344400">
            <a:off x="772920" y="6665760"/>
            <a:ext cx="998280" cy="501840"/>
          </a:xfrm>
          <a:custGeom>
            <a:avLst/>
            <a:gdLst/>
            <a:ahLst/>
            <a:rect l="l" t="t" r="r" b="b"/>
            <a:pathLst>
              <a:path w="1011752" h="488978">
                <a:moveTo>
                  <a:pt x="41659" y="129808"/>
                </a:moveTo>
                <a:cubicBezTo>
                  <a:pt x="53032" y="122984"/>
                  <a:pt x="71369" y="125147"/>
                  <a:pt x="82602" y="116160"/>
                </a:cubicBezTo>
                <a:cubicBezTo>
                  <a:pt x="126526" y="81020"/>
                  <a:pt x="88718" y="64864"/>
                  <a:pt x="150841" y="47921"/>
                </a:cubicBezTo>
                <a:cubicBezTo>
                  <a:pt x="186226" y="38270"/>
                  <a:pt x="223629" y="38822"/>
                  <a:pt x="260023" y="34273"/>
                </a:cubicBezTo>
                <a:cubicBezTo>
                  <a:pt x="359703" y="1047"/>
                  <a:pt x="313996" y="0"/>
                  <a:pt x="396500" y="20625"/>
                </a:cubicBezTo>
                <a:cubicBezTo>
                  <a:pt x="512663" y="98068"/>
                  <a:pt x="445782" y="78840"/>
                  <a:pt x="601217" y="61569"/>
                </a:cubicBezTo>
                <a:cubicBezTo>
                  <a:pt x="701301" y="66118"/>
                  <a:pt x="801778" y="65248"/>
                  <a:pt x="901468" y="75217"/>
                </a:cubicBezTo>
                <a:cubicBezTo>
                  <a:pt x="938796" y="78950"/>
                  <a:pt x="1010650" y="102512"/>
                  <a:pt x="1010650" y="102512"/>
                </a:cubicBezTo>
                <a:cubicBezTo>
                  <a:pt x="933356" y="488978"/>
                  <a:pt x="1011752" y="213294"/>
                  <a:pt x="14363" y="157103"/>
                </a:cubicBezTo>
                <a:cubicBezTo>
                  <a:pt x="0" y="156294"/>
                  <a:pt x="30286" y="136632"/>
                  <a:pt x="41659" y="129808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0" y="60958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t of Gibral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Straight Arrow Connector 5"/>
          <p:cNvCxnSpPr/>
          <p:nvPr/>
        </p:nvCxnSpPr>
        <p:spPr>
          <a:xfrm>
            <a:off x="304920" y="6629040"/>
            <a:ext cx="1026000" cy="3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6" name="Freeform 8"/>
          <p:cNvSpPr/>
          <p:nvPr/>
        </p:nvSpPr>
        <p:spPr>
          <a:xfrm>
            <a:off x="5361120" y="2092320"/>
            <a:ext cx="3255840" cy="4695840"/>
          </a:xfrm>
          <a:custGeom>
            <a:avLst/>
            <a:gdLst/>
            <a:ahLst/>
            <a:rect l="l" t="t" r="r" b="b"/>
            <a:pathLst>
              <a:path w="3255818" h="4696691">
                <a:moveTo>
                  <a:pt x="304800" y="4696691"/>
                </a:moveTo>
                <a:cubicBezTo>
                  <a:pt x="277829" y="4615776"/>
                  <a:pt x="312049" y="4690086"/>
                  <a:pt x="249382" y="4627419"/>
                </a:cubicBezTo>
                <a:cubicBezTo>
                  <a:pt x="237608" y="4615645"/>
                  <a:pt x="232333" y="4598647"/>
                  <a:pt x="221673" y="4585855"/>
                </a:cubicBezTo>
                <a:cubicBezTo>
                  <a:pt x="209130" y="4570803"/>
                  <a:pt x="191497" y="4560235"/>
                  <a:pt x="180109" y="4544291"/>
                </a:cubicBezTo>
                <a:cubicBezTo>
                  <a:pt x="168105" y="4527485"/>
                  <a:pt x="165622" y="4504739"/>
                  <a:pt x="152400" y="4488873"/>
                </a:cubicBezTo>
                <a:cubicBezTo>
                  <a:pt x="141740" y="4476081"/>
                  <a:pt x="123628" y="4471824"/>
                  <a:pt x="110836" y="4461164"/>
                </a:cubicBezTo>
                <a:cubicBezTo>
                  <a:pt x="77734" y="4433579"/>
                  <a:pt x="25737" y="4372119"/>
                  <a:pt x="13855" y="4336473"/>
                </a:cubicBezTo>
                <a:lnTo>
                  <a:pt x="0" y="4294909"/>
                </a:lnTo>
                <a:cubicBezTo>
                  <a:pt x="4618" y="4257964"/>
                  <a:pt x="7195" y="4220705"/>
                  <a:pt x="13855" y="4184073"/>
                </a:cubicBezTo>
                <a:cubicBezTo>
                  <a:pt x="16467" y="4169705"/>
                  <a:pt x="17382" y="4152836"/>
                  <a:pt x="27709" y="4142509"/>
                </a:cubicBezTo>
                <a:cubicBezTo>
                  <a:pt x="38036" y="4132182"/>
                  <a:pt x="55418" y="4133273"/>
                  <a:pt x="69273" y="4128655"/>
                </a:cubicBezTo>
                <a:cubicBezTo>
                  <a:pt x="176431" y="4057215"/>
                  <a:pt x="61578" y="4123817"/>
                  <a:pt x="318655" y="4087091"/>
                </a:cubicBezTo>
                <a:cubicBezTo>
                  <a:pt x="347569" y="4082960"/>
                  <a:pt x="401782" y="4059382"/>
                  <a:pt x="401782" y="4059382"/>
                </a:cubicBezTo>
                <a:cubicBezTo>
                  <a:pt x="411018" y="4045528"/>
                  <a:pt x="419089" y="4030821"/>
                  <a:pt x="429491" y="4017819"/>
                </a:cubicBezTo>
                <a:cubicBezTo>
                  <a:pt x="437651" y="4007619"/>
                  <a:pt x="449363" y="4000559"/>
                  <a:pt x="457200" y="3990109"/>
                </a:cubicBezTo>
                <a:cubicBezTo>
                  <a:pt x="477181" y="3963467"/>
                  <a:pt x="494145" y="3934691"/>
                  <a:pt x="512618" y="3906982"/>
                </a:cubicBezTo>
                <a:cubicBezTo>
                  <a:pt x="521854" y="3893128"/>
                  <a:pt x="524531" y="3870685"/>
                  <a:pt x="540327" y="3865419"/>
                </a:cubicBezTo>
                <a:cubicBezTo>
                  <a:pt x="644796" y="3830595"/>
                  <a:pt x="516028" y="3877569"/>
                  <a:pt x="623455" y="3823855"/>
                </a:cubicBezTo>
                <a:cubicBezTo>
                  <a:pt x="657565" y="3806800"/>
                  <a:pt x="716212" y="3801468"/>
                  <a:pt x="748146" y="3796146"/>
                </a:cubicBezTo>
                <a:lnTo>
                  <a:pt x="831273" y="3768437"/>
                </a:lnTo>
                <a:cubicBezTo>
                  <a:pt x="845127" y="3763819"/>
                  <a:pt x="858292" y="3755904"/>
                  <a:pt x="872836" y="3754582"/>
                </a:cubicBezTo>
                <a:lnTo>
                  <a:pt x="1025236" y="3740728"/>
                </a:lnTo>
                <a:cubicBezTo>
                  <a:pt x="1043709" y="3722255"/>
                  <a:pt x="1055871" y="3693570"/>
                  <a:pt x="1080655" y="3685309"/>
                </a:cubicBezTo>
                <a:cubicBezTo>
                  <a:pt x="1094509" y="3680691"/>
                  <a:pt x="1108795" y="3677208"/>
                  <a:pt x="1122218" y="3671455"/>
                </a:cubicBezTo>
                <a:cubicBezTo>
                  <a:pt x="1141201" y="3663319"/>
                  <a:pt x="1157711" y="3649180"/>
                  <a:pt x="1177636" y="3643746"/>
                </a:cubicBezTo>
                <a:cubicBezTo>
                  <a:pt x="1209141" y="3635154"/>
                  <a:pt x="1242291" y="3634509"/>
                  <a:pt x="1274618" y="3629891"/>
                </a:cubicBezTo>
                <a:cubicBezTo>
                  <a:pt x="1288473" y="3625273"/>
                  <a:pt x="1304778" y="3625160"/>
                  <a:pt x="1316182" y="3616037"/>
                </a:cubicBezTo>
                <a:cubicBezTo>
                  <a:pt x="1329184" y="3605635"/>
                  <a:pt x="1329771" y="3583298"/>
                  <a:pt x="1343891" y="3574473"/>
                </a:cubicBezTo>
                <a:cubicBezTo>
                  <a:pt x="1368659" y="3558993"/>
                  <a:pt x="1427018" y="3546764"/>
                  <a:pt x="1427018" y="3546764"/>
                </a:cubicBezTo>
                <a:cubicBezTo>
                  <a:pt x="1541738" y="3585004"/>
                  <a:pt x="1485844" y="3558272"/>
                  <a:pt x="1593273" y="3629891"/>
                </a:cubicBezTo>
                <a:cubicBezTo>
                  <a:pt x="1607127" y="3639127"/>
                  <a:pt x="1623062" y="3645826"/>
                  <a:pt x="1634836" y="3657600"/>
                </a:cubicBezTo>
                <a:cubicBezTo>
                  <a:pt x="1644073" y="3666836"/>
                  <a:pt x="1650863" y="3679467"/>
                  <a:pt x="1662546" y="3685309"/>
                </a:cubicBezTo>
                <a:cubicBezTo>
                  <a:pt x="1740486" y="3724280"/>
                  <a:pt x="1810155" y="3718881"/>
                  <a:pt x="1898073" y="3726873"/>
                </a:cubicBezTo>
                <a:cubicBezTo>
                  <a:pt x="1916546" y="3731491"/>
                  <a:pt x="1935182" y="3735497"/>
                  <a:pt x="1953491" y="3740728"/>
                </a:cubicBezTo>
                <a:cubicBezTo>
                  <a:pt x="1967533" y="3744740"/>
                  <a:pt x="1980650" y="3752181"/>
                  <a:pt x="1995055" y="3754582"/>
                </a:cubicBezTo>
                <a:cubicBezTo>
                  <a:pt x="2036305" y="3761457"/>
                  <a:pt x="2078182" y="3763819"/>
                  <a:pt x="2119746" y="3768437"/>
                </a:cubicBezTo>
                <a:cubicBezTo>
                  <a:pt x="2143382" y="3780255"/>
                  <a:pt x="2187280" y="3805470"/>
                  <a:pt x="2216727" y="3810000"/>
                </a:cubicBezTo>
                <a:cubicBezTo>
                  <a:pt x="2296125" y="3822215"/>
                  <a:pt x="2500777" y="3833555"/>
                  <a:pt x="2563091" y="3837709"/>
                </a:cubicBezTo>
                <a:cubicBezTo>
                  <a:pt x="2576946" y="3842327"/>
                  <a:pt x="2591593" y="3845033"/>
                  <a:pt x="2604655" y="3851564"/>
                </a:cubicBezTo>
                <a:cubicBezTo>
                  <a:pt x="2619548" y="3859011"/>
                  <a:pt x="2630154" y="3874892"/>
                  <a:pt x="2646218" y="3879273"/>
                </a:cubicBezTo>
                <a:cubicBezTo>
                  <a:pt x="2682139" y="3889070"/>
                  <a:pt x="2720109" y="3888510"/>
                  <a:pt x="2757055" y="3893128"/>
                </a:cubicBezTo>
                <a:cubicBezTo>
                  <a:pt x="2770909" y="3902364"/>
                  <a:pt x="2783402" y="3914074"/>
                  <a:pt x="2798618" y="3920837"/>
                </a:cubicBezTo>
                <a:cubicBezTo>
                  <a:pt x="2825309" y="3932700"/>
                  <a:pt x="2881746" y="3948546"/>
                  <a:pt x="2881746" y="3948546"/>
                </a:cubicBezTo>
                <a:cubicBezTo>
                  <a:pt x="2895600" y="3943928"/>
                  <a:pt x="2916778" y="3947753"/>
                  <a:pt x="2923309" y="3934691"/>
                </a:cubicBezTo>
                <a:cubicBezTo>
                  <a:pt x="2929840" y="3921629"/>
                  <a:pt x="2915986" y="3906190"/>
                  <a:pt x="2909455" y="3893128"/>
                </a:cubicBezTo>
                <a:cubicBezTo>
                  <a:pt x="2902008" y="3878235"/>
                  <a:pt x="2889193" y="3866457"/>
                  <a:pt x="2881746" y="3851564"/>
                </a:cubicBezTo>
                <a:cubicBezTo>
                  <a:pt x="2852323" y="3792717"/>
                  <a:pt x="2890792" y="3818576"/>
                  <a:pt x="2826327" y="3768437"/>
                </a:cubicBezTo>
                <a:cubicBezTo>
                  <a:pt x="2800040" y="3747992"/>
                  <a:pt x="2743200" y="3713019"/>
                  <a:pt x="2743200" y="3713019"/>
                </a:cubicBezTo>
                <a:cubicBezTo>
                  <a:pt x="2747818" y="3666837"/>
                  <a:pt x="2749998" y="3620346"/>
                  <a:pt x="2757055" y="3574473"/>
                </a:cubicBezTo>
                <a:cubicBezTo>
                  <a:pt x="2759276" y="3560039"/>
                  <a:pt x="2761786" y="3544313"/>
                  <a:pt x="2770909" y="3532909"/>
                </a:cubicBezTo>
                <a:cubicBezTo>
                  <a:pt x="2781311" y="3519907"/>
                  <a:pt x="2798016" y="3513461"/>
                  <a:pt x="2812473" y="3505200"/>
                </a:cubicBezTo>
                <a:cubicBezTo>
                  <a:pt x="2830405" y="3494953"/>
                  <a:pt x="2849418" y="3486727"/>
                  <a:pt x="2867891" y="3477491"/>
                </a:cubicBezTo>
                <a:cubicBezTo>
                  <a:pt x="2881746" y="3482109"/>
                  <a:pt x="2894851" y="3491346"/>
                  <a:pt x="2909455" y="3491346"/>
                </a:cubicBezTo>
                <a:cubicBezTo>
                  <a:pt x="2991275" y="3491346"/>
                  <a:pt x="2964463" y="3401344"/>
                  <a:pt x="2937164" y="3338946"/>
                </a:cubicBezTo>
                <a:cubicBezTo>
                  <a:pt x="2921457" y="3303045"/>
                  <a:pt x="2881745" y="3283528"/>
                  <a:pt x="2854036" y="3255819"/>
                </a:cubicBezTo>
                <a:cubicBezTo>
                  <a:pt x="2809993" y="3211776"/>
                  <a:pt x="2836788" y="3235955"/>
                  <a:pt x="2770909" y="3186546"/>
                </a:cubicBezTo>
                <a:cubicBezTo>
                  <a:pt x="2756899" y="3165531"/>
                  <a:pt x="2729346" y="3132099"/>
                  <a:pt x="2729346" y="3103419"/>
                </a:cubicBezTo>
                <a:cubicBezTo>
                  <a:pt x="2729346" y="3088815"/>
                  <a:pt x="2732873" y="3072182"/>
                  <a:pt x="2743200" y="3061855"/>
                </a:cubicBezTo>
                <a:cubicBezTo>
                  <a:pt x="2753527" y="3051528"/>
                  <a:pt x="2770909" y="3052618"/>
                  <a:pt x="2784764" y="3048000"/>
                </a:cubicBezTo>
                <a:cubicBezTo>
                  <a:pt x="2794000" y="3034146"/>
                  <a:pt x="2805027" y="3021330"/>
                  <a:pt x="2812473" y="3006437"/>
                </a:cubicBezTo>
                <a:cubicBezTo>
                  <a:pt x="2819004" y="2993375"/>
                  <a:pt x="2817204" y="2976277"/>
                  <a:pt x="2826327" y="2964873"/>
                </a:cubicBezTo>
                <a:cubicBezTo>
                  <a:pt x="2836729" y="2951871"/>
                  <a:pt x="2854036" y="2946400"/>
                  <a:pt x="2867891" y="2937164"/>
                </a:cubicBezTo>
                <a:cubicBezTo>
                  <a:pt x="2929978" y="2957860"/>
                  <a:pt x="2949778" y="2970912"/>
                  <a:pt x="3034146" y="2937164"/>
                </a:cubicBezTo>
                <a:cubicBezTo>
                  <a:pt x="3047705" y="2931740"/>
                  <a:pt x="3043382" y="2909455"/>
                  <a:pt x="3048000" y="2895600"/>
                </a:cubicBezTo>
                <a:cubicBezTo>
                  <a:pt x="3052618" y="2863273"/>
                  <a:pt x="3051528" y="2829598"/>
                  <a:pt x="3061855" y="2798619"/>
                </a:cubicBezTo>
                <a:cubicBezTo>
                  <a:pt x="3074782" y="2759839"/>
                  <a:pt x="3133420" y="2763409"/>
                  <a:pt x="3158836" y="2757055"/>
                </a:cubicBezTo>
                <a:cubicBezTo>
                  <a:pt x="3173004" y="2753513"/>
                  <a:pt x="3186545" y="2747818"/>
                  <a:pt x="3200400" y="2743200"/>
                </a:cubicBezTo>
                <a:cubicBezTo>
                  <a:pt x="3205018" y="2729346"/>
                  <a:pt x="3213893" y="2716236"/>
                  <a:pt x="3214255" y="2701637"/>
                </a:cubicBezTo>
                <a:cubicBezTo>
                  <a:pt x="3227764" y="2156781"/>
                  <a:pt x="3234395" y="1611771"/>
                  <a:pt x="3241964" y="1066800"/>
                </a:cubicBezTo>
                <a:cubicBezTo>
                  <a:pt x="3246903" y="711204"/>
                  <a:pt x="3255818" y="355630"/>
                  <a:pt x="325581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7467480" y="2971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al M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8229600" y="5486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1"/>
          <p:cNvSpPr/>
          <p:nvPr/>
        </p:nvSpPr>
        <p:spPr>
          <a:xfrm>
            <a:off x="7238880" y="533412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ssia’s b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6324480" y="5791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ck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3"/>
          <p:cNvSpPr/>
          <p:nvPr/>
        </p:nvSpPr>
        <p:spPr>
          <a:xfrm>
            <a:off x="6730920" y="6159600"/>
            <a:ext cx="1974960" cy="725400"/>
          </a:xfrm>
          <a:custGeom>
            <a:avLst/>
            <a:gdLst/>
            <a:ahLst/>
            <a:rect l="l" t="t" r="r" b="b"/>
            <a:pathLst>
              <a:path w="1974858" h="726206">
                <a:moveTo>
                  <a:pt x="293555" y="365988"/>
                </a:moveTo>
                <a:cubicBezTo>
                  <a:pt x="312028" y="370606"/>
                  <a:pt x="330664" y="374611"/>
                  <a:pt x="348973" y="379842"/>
                </a:cubicBezTo>
                <a:cubicBezTo>
                  <a:pt x="363015" y="383854"/>
                  <a:pt x="375932" y="393697"/>
                  <a:pt x="390536" y="393697"/>
                </a:cubicBezTo>
                <a:cubicBezTo>
                  <a:pt x="432355" y="393697"/>
                  <a:pt x="473663" y="384460"/>
                  <a:pt x="515227" y="379842"/>
                </a:cubicBezTo>
                <a:cubicBezTo>
                  <a:pt x="665972" y="329596"/>
                  <a:pt x="428711" y="404512"/>
                  <a:pt x="847736" y="352133"/>
                </a:cubicBezTo>
                <a:cubicBezTo>
                  <a:pt x="864259" y="350068"/>
                  <a:pt x="875445" y="333660"/>
                  <a:pt x="889300" y="324424"/>
                </a:cubicBezTo>
                <a:cubicBezTo>
                  <a:pt x="907773" y="329042"/>
                  <a:pt x="926409" y="333047"/>
                  <a:pt x="944718" y="338278"/>
                </a:cubicBezTo>
                <a:cubicBezTo>
                  <a:pt x="958760" y="342290"/>
                  <a:pt x="971678" y="352133"/>
                  <a:pt x="986282" y="352133"/>
                </a:cubicBezTo>
                <a:cubicBezTo>
                  <a:pt x="1032694" y="352133"/>
                  <a:pt x="1078645" y="342896"/>
                  <a:pt x="1124827" y="338278"/>
                </a:cubicBezTo>
                <a:cubicBezTo>
                  <a:pt x="1120209" y="315187"/>
                  <a:pt x="1120717" y="290443"/>
                  <a:pt x="1110973" y="269006"/>
                </a:cubicBezTo>
                <a:cubicBezTo>
                  <a:pt x="1097193" y="238689"/>
                  <a:pt x="1055555" y="185878"/>
                  <a:pt x="1055555" y="185878"/>
                </a:cubicBezTo>
                <a:cubicBezTo>
                  <a:pt x="1060173" y="148933"/>
                  <a:pt x="1041140" y="99273"/>
                  <a:pt x="1069409" y="75042"/>
                </a:cubicBezTo>
                <a:cubicBezTo>
                  <a:pt x="1091585" y="56034"/>
                  <a:pt x="1123622" y="98620"/>
                  <a:pt x="1152536" y="102751"/>
                </a:cubicBezTo>
                <a:lnTo>
                  <a:pt x="1249518" y="116606"/>
                </a:lnTo>
                <a:cubicBezTo>
                  <a:pt x="1258754" y="130460"/>
                  <a:pt x="1264225" y="147767"/>
                  <a:pt x="1277227" y="158169"/>
                </a:cubicBezTo>
                <a:cubicBezTo>
                  <a:pt x="1311310" y="185435"/>
                  <a:pt x="1352555" y="165271"/>
                  <a:pt x="1388064" y="158169"/>
                </a:cubicBezTo>
                <a:cubicBezTo>
                  <a:pt x="1397300" y="144315"/>
                  <a:pt x="1403999" y="128380"/>
                  <a:pt x="1415773" y="116606"/>
                </a:cubicBezTo>
                <a:cubicBezTo>
                  <a:pt x="1427547" y="104832"/>
                  <a:pt x="1440852" y="91252"/>
                  <a:pt x="1457336" y="88897"/>
                </a:cubicBezTo>
                <a:cubicBezTo>
                  <a:pt x="1479318" y="85757"/>
                  <a:pt x="1570258" y="125752"/>
                  <a:pt x="1582027" y="130460"/>
                </a:cubicBezTo>
                <a:cubicBezTo>
                  <a:pt x="1559782" y="137875"/>
                  <a:pt x="1451245" y="160287"/>
                  <a:pt x="1595882" y="199733"/>
                </a:cubicBezTo>
                <a:cubicBezTo>
                  <a:pt x="1627387" y="208325"/>
                  <a:pt x="1660537" y="190496"/>
                  <a:pt x="1692864" y="185878"/>
                </a:cubicBezTo>
                <a:cubicBezTo>
                  <a:pt x="1698270" y="142630"/>
                  <a:pt x="1690767" y="68406"/>
                  <a:pt x="1734427" y="33478"/>
                </a:cubicBezTo>
                <a:cubicBezTo>
                  <a:pt x="1745831" y="24355"/>
                  <a:pt x="1762136" y="24242"/>
                  <a:pt x="1775991" y="19624"/>
                </a:cubicBezTo>
                <a:cubicBezTo>
                  <a:pt x="1879187" y="88420"/>
                  <a:pt x="1752443" y="0"/>
                  <a:pt x="1859118" y="88897"/>
                </a:cubicBezTo>
                <a:cubicBezTo>
                  <a:pt x="1974858" y="185348"/>
                  <a:pt x="1820810" y="36734"/>
                  <a:pt x="1942245" y="158169"/>
                </a:cubicBezTo>
                <a:cubicBezTo>
                  <a:pt x="1937627" y="338278"/>
                  <a:pt x="1946318" y="519223"/>
                  <a:pt x="1928391" y="698497"/>
                </a:cubicBezTo>
                <a:cubicBezTo>
                  <a:pt x="1926938" y="713029"/>
                  <a:pt x="1901404" y="711468"/>
                  <a:pt x="1886827" y="712351"/>
                </a:cubicBezTo>
                <a:cubicBezTo>
                  <a:pt x="1748459" y="720737"/>
                  <a:pt x="1609736" y="721588"/>
                  <a:pt x="1471191" y="726206"/>
                </a:cubicBezTo>
                <a:lnTo>
                  <a:pt x="71882" y="698497"/>
                </a:lnTo>
                <a:cubicBezTo>
                  <a:pt x="0" y="689871"/>
                  <a:pt x="91344" y="546014"/>
                  <a:pt x="113445" y="518388"/>
                </a:cubicBezTo>
                <a:cubicBezTo>
                  <a:pt x="121605" y="508188"/>
                  <a:pt x="131918" y="499915"/>
                  <a:pt x="141155" y="490678"/>
                </a:cubicBezTo>
                <a:cubicBezTo>
                  <a:pt x="155768" y="402996"/>
                  <a:pt x="155009" y="435642"/>
                  <a:pt x="155009" y="393697"/>
                </a:cubicBezTo>
              </a:path>
            </a:pathLst>
          </a:custGeom>
          <a:solidFill>
            <a:srgbClr val="5dfd7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8153280" y="502920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pi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0" y="380880"/>
            <a:ext cx="4648320" cy="3288960"/>
          </a:xfrm>
          <a:prstGeom prst="rect">
            <a:avLst/>
          </a:prstGeom>
          <a:solidFill>
            <a:srgbClr val="ffff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4-12 &amp; 13-12 Use Blue book p. 2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he name of the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2"/>
          <p:cNvSpPr/>
          <p:nvPr/>
        </p:nvSpPr>
        <p:spPr>
          <a:xfrm>
            <a:off x="304920" y="1219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r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3"/>
          <p:cNvSpPr/>
          <p:nvPr/>
        </p:nvSpPr>
        <p:spPr>
          <a:xfrm>
            <a:off x="380880" y="16002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4"/>
          <p:cNvSpPr/>
          <p:nvPr/>
        </p:nvSpPr>
        <p:spPr>
          <a:xfrm>
            <a:off x="380880" y="19810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5"/>
          <p:cNvSpPr/>
          <p:nvPr/>
        </p:nvSpPr>
        <p:spPr>
          <a:xfrm>
            <a:off x="304920" y="2438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lg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6"/>
          <p:cNvSpPr/>
          <p:nvPr/>
        </p:nvSpPr>
        <p:spPr>
          <a:xfrm>
            <a:off x="304920" y="2895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7"/>
          <p:cNvSpPr/>
          <p:nvPr/>
        </p:nvSpPr>
        <p:spPr>
          <a:xfrm>
            <a:off x="30492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8"/>
          <p:cNvSpPr/>
          <p:nvPr/>
        </p:nvSpPr>
        <p:spPr>
          <a:xfrm>
            <a:off x="838080" y="4572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9"/>
          <p:cNvSpPr/>
          <p:nvPr/>
        </p:nvSpPr>
        <p:spPr>
          <a:xfrm>
            <a:off x="1676520" y="4495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0"/>
          <p:cNvSpPr/>
          <p:nvPr/>
        </p:nvSpPr>
        <p:spPr>
          <a:xfrm>
            <a:off x="2209680" y="52578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1"/>
          <p:cNvSpPr/>
          <p:nvPr/>
        </p:nvSpPr>
        <p:spPr>
          <a:xfrm>
            <a:off x="2570040" y="4751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2"/>
          <p:cNvSpPr/>
          <p:nvPr/>
        </p:nvSpPr>
        <p:spPr>
          <a:xfrm>
            <a:off x="2556000" y="430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3"/>
          <p:cNvSpPr/>
          <p:nvPr/>
        </p:nvSpPr>
        <p:spPr>
          <a:xfrm>
            <a:off x="3144960" y="47102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35"/>
          <p:cNvCxnSpPr/>
          <p:nvPr/>
        </p:nvCxnSpPr>
        <p:spPr>
          <a:xfrm>
            <a:off x="2818440" y="4495320"/>
            <a:ext cx="7668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TextBox 37"/>
          <p:cNvSpPr/>
          <p:nvPr/>
        </p:nvSpPr>
        <p:spPr>
          <a:xfrm>
            <a:off x="5334120" y="380880"/>
            <a:ext cx="380988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Get out map quiz ho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21:26:57Z</dcterms:created>
  <dc:creator>poweruser</dc:creator>
  <dc:description/>
  <dc:language>en-US</dc:language>
  <cp:lastModifiedBy>poweruser</cp:lastModifiedBy>
  <dcterms:modified xsi:type="dcterms:W3CDTF">2012-04-13T13:08:47Z</dcterms:modified>
  <cp:revision>39</cp:revision>
  <dc:subject/>
  <dc:title>Slide 1</dc:title>
</cp:coreProperties>
</file>